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239600" cy="1978200"/>
            <a:chOff x="0" y="0"/>
            <a:chExt cx="7239600" cy="1978200"/>
          </a:xfrm>
        </p:grpSpPr>
        <p:sp>
          <p:nvSpPr>
            <p:cNvPr id="1" name="AutoShape 2"/>
            <p:cNvSpPr/>
            <p:nvPr/>
          </p:nvSpPr>
          <p:spPr>
            <a:xfrm>
              <a:off x="0" y="914400"/>
              <a:ext cx="7112880" cy="106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73" y="9711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32"/>
                  </a:lnTo>
                  <a:lnTo>
                    <a:pt x="21573" y="4969"/>
                  </a:lnTo>
                  <a:lnTo>
                    <a:pt x="21573" y="9711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0"/>
              <a:ext cx="7239600" cy="190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0" y="16789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590" y="1678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7239600" cy="1978200"/>
            <a:chOff x="0" y="0"/>
            <a:chExt cx="7239600" cy="1978200"/>
          </a:xfrm>
        </p:grpSpPr>
        <p:sp>
          <p:nvSpPr>
            <p:cNvPr id="42" name="AutoShape 2"/>
            <p:cNvSpPr/>
            <p:nvPr/>
          </p:nvSpPr>
          <p:spPr>
            <a:xfrm>
              <a:off x="0" y="914400"/>
              <a:ext cx="7112880" cy="106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73" y="9711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32"/>
                  </a:lnTo>
                  <a:lnTo>
                    <a:pt x="21573" y="4969"/>
                  </a:lnTo>
                  <a:lnTo>
                    <a:pt x="21573" y="9711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3"/>
            <p:cNvSpPr/>
            <p:nvPr/>
          </p:nvSpPr>
          <p:spPr>
            <a:xfrm>
              <a:off x="0" y="0"/>
              <a:ext cx="7239600" cy="190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0" y="16789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590" y="1678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"/>
          <p:cNvGrpSpPr/>
          <p:nvPr/>
        </p:nvGrpSpPr>
        <p:grpSpPr>
          <a:xfrm>
            <a:off x="0" y="0"/>
            <a:ext cx="8455680" cy="5940720"/>
            <a:chOff x="0" y="0"/>
            <a:chExt cx="8455680" cy="5940720"/>
          </a:xfrm>
        </p:grpSpPr>
        <p:sp>
          <p:nvSpPr>
            <p:cNvPr id="83" name="AutoShape 2"/>
            <p:cNvSpPr/>
            <p:nvPr/>
          </p:nvSpPr>
          <p:spPr>
            <a:xfrm>
              <a:off x="0" y="2285280"/>
              <a:ext cx="8187840" cy="365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5" y="16584"/>
                  </a:moveTo>
                  <a:lnTo>
                    <a:pt x="0" y="21600"/>
                  </a:lnTo>
                  <a:lnTo>
                    <a:pt x="0" y="11737"/>
                  </a:lnTo>
                  <a:lnTo>
                    <a:pt x="21600" y="0"/>
                  </a:lnTo>
                  <a:lnTo>
                    <a:pt x="21600" y="13275"/>
                  </a:lnTo>
                  <a:lnTo>
                    <a:pt x="21595" y="16584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"/>
            <p:cNvSpPr/>
            <p:nvPr/>
          </p:nvSpPr>
          <p:spPr>
            <a:xfrm>
              <a:off x="0" y="0"/>
              <a:ext cx="8455680" cy="58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31" y="18789"/>
                  </a:moveTo>
                  <a:lnTo>
                    <a:pt x="0" y="21600"/>
                  </a:lnTo>
                  <a:lnTo>
                    <a:pt x="0" y="52"/>
                  </a:lnTo>
                  <a:lnTo>
                    <a:pt x="21600" y="0"/>
                  </a:lnTo>
                  <a:lnTo>
                    <a:pt x="21531" y="1878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0" y="0"/>
            <a:ext cx="7239600" cy="1978200"/>
            <a:chOff x="0" y="0"/>
            <a:chExt cx="7239600" cy="1978200"/>
          </a:xfrm>
        </p:grpSpPr>
        <p:sp>
          <p:nvSpPr>
            <p:cNvPr id="124" name="AutoShape 2"/>
            <p:cNvSpPr/>
            <p:nvPr/>
          </p:nvSpPr>
          <p:spPr>
            <a:xfrm>
              <a:off x="0" y="914400"/>
              <a:ext cx="7112880" cy="106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73" y="9711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32"/>
                  </a:lnTo>
                  <a:lnTo>
                    <a:pt x="21573" y="4969"/>
                  </a:lnTo>
                  <a:lnTo>
                    <a:pt x="21573" y="9711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0" y="0"/>
              <a:ext cx="7239600" cy="190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0" y="16789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590" y="1678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Arial"/>
              </a:rPr>
              <a:t>Jonathan Edwards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703-175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Jonathan_Edwards.jpg"/>
          <p:cNvPicPr/>
          <p:nvPr/>
        </p:nvPicPr>
        <p:blipFill>
          <a:blip r:embed="rId1"/>
          <a:stretch/>
        </p:blipFill>
        <p:spPr>
          <a:xfrm>
            <a:off x="2666880" y="1371600"/>
            <a:ext cx="4078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ative or descriptive language in a literary work used by the author to create a mental or sensory image in the rea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3179036200_7f647c0dd2.jpg"/>
          <p:cNvPicPr/>
          <p:nvPr/>
        </p:nvPicPr>
        <p:blipFill>
          <a:blip r:embed="rId1"/>
          <a:stretch/>
        </p:blipFill>
        <p:spPr>
          <a:xfrm>
            <a:off x="5257800" y="15238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71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Noteworthy Light"/>
                <a:ea typeface="Noteworthy Light"/>
              </a:rPr>
              <a:t>ISMs Char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e take out your ISMs chart to add key details into. This will serve as a timeline of events, facts, and authors of all time periods of stud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1523880"/>
          <a:ext cx="8381880" cy="4953240"/>
        </p:xfrm>
        <a:graphic>
          <a:graphicData uri="http://schemas.openxmlformats.org/drawingml/2006/table">
            <a:tbl>
              <a:tblPr/>
              <a:tblGrid>
                <a:gridCol w="1708200"/>
                <a:gridCol w="3181320"/>
                <a:gridCol w="3492360"/>
              </a:tblGrid>
              <a:tr h="825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-Coloni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it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 upon in times of trial and for divine inspi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ict; vengeful and punis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8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/The Indiv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king freedom from religious persecution; Glory, God and Gold; adventurous spir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edom over fate---all was up to god; man was born sin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t to be conquered; used for profit/gain; materials for col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il—devil’s hideout; superstitious; assumed Native Americans lived there=dev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settlements; farming; relationships with Native Americans; slavery 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estination; TULIP; vill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umbus; deVaca; Smith; Equi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dford, Bradstreet, Ed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s-appealing to 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os-credibility of source or aut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-appealing to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 Angry 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angry_god.jpg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48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FarSideGodComputerSmall.jpg"/>
          <p:cNvPicPr/>
          <p:nvPr/>
        </p:nvPicPr>
        <p:blipFill>
          <a:blip r:embed="rId1"/>
          <a:stretch/>
        </p:blipFill>
        <p:spPr>
          <a:xfrm>
            <a:off x="1851120" y="114480"/>
            <a:ext cx="544176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role in the shaping of The Great Awakening (1730-175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dfather of Aaron Bu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fifth of eleven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ntered Yale College in 1716, at just under the age of thirt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scholar-pastor his rule being thirteen hours of study a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Great Awak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ies of several religious revi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in the 173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6a00e54eeede1588340133ed8a3580970b-500wi.jpg"/>
          <p:cNvPicPr/>
          <p:nvPr/>
        </p:nvPicPr>
        <p:blipFill>
          <a:blip r:embed="rId1"/>
          <a:stretch/>
        </p:blipFill>
        <p:spPr>
          <a:xfrm>
            <a:off x="2057400" y="2819520"/>
            <a:ext cx="54100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ructure and Delivery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f a Puritan Serm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pigraph-reading of a Biblical epigraph, explanation of its meaning and its Biblical con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xposition- demonstration of scriptural evidence, reasoning, establishing the validity of the doct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uctur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pplication-statement of how the doctrine applies to one’s personal, spiritual and family lives and to the immediate commu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logue-call to action, emotional app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nners in the Hands of an Angry God (174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mon written by Edwards and preached on July 8, 17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foot shall slide in due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32:35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ok of the Bi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e and Brimstone” tra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ire+and+Brimstone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between the Puritans and the Israelites (chosen by God to be God’s first follow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geance of God on the wicked, unbelieving Israelit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golden_calf.jpg"/>
          <p:cNvPicPr/>
          <p:nvPr/>
        </p:nvPicPr>
        <p:blipFill>
          <a:blip r:embed="rId1"/>
          <a:stretch/>
        </p:blipFill>
        <p:spPr>
          <a:xfrm>
            <a:off x="2971800" y="3200400"/>
            <a:ext cx="495288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inence of de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s of destruction are there, just momentarily stayed, restrained by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nger of death and damnation that faces the unconve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lego-edwards.jpg"/>
          <p:cNvPicPr/>
          <p:nvPr/>
        </p:nvPicPr>
        <p:blipFill>
          <a:blip r:embed="rId1"/>
          <a:stretch/>
        </p:blipFill>
        <p:spPr>
          <a:xfrm>
            <a:off x="4495680" y="1600200"/>
            <a:ext cx="4305600" cy="287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09-20T14:04:03Z</dcterms:modified>
  <cp:revision>4</cp:revision>
  <dc:subject/>
  <dc:title>Jonathan Edwards</dc:title>
</cp:coreProperties>
</file>